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A4F-856A-4394-AB7A-507EA021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958-1FDD-4765-AF55-ADE2BF75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FE4-31D0-4221-94D5-5879114B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AF2-67A4-40A5-BDF9-D38ABDC8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9355-8060-4F6A-B6DC-2A808479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2066-E306-4BB4-BEDE-37BE865D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FC1E-EDE5-4377-8B10-8B166BC6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5288-275A-4CDB-86D1-82212D1D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112E-2F3A-4F50-A99A-8E6CE44D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1A52-7206-47EA-9970-907A7B66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6A0E-99EB-4D73-8EC0-3E92CD0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D16-3EA7-484D-B912-4FBB666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8611-CB5A-4A16-BF91-BCBD7BA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1D23-EF9F-4A77-91B6-58DB2384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F01B-DEE9-4BE2-9D4E-1351A27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F941-71D4-4461-B172-B1B2DDF9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29A5-ECE7-4F9C-81B8-CC47AFCB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434-7791-4E82-A760-BFB1491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725-B6D8-4BE4-BF1A-DD3EC88F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EC9-16C1-4387-B2EA-76FFBFE2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272-E5EF-46A0-9CF9-2E614045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D40-2347-4035-BB5B-63D2832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443-331F-4E01-97A5-7EFAA4B8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081-22A3-4973-9FF1-27F4054C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0EE8-8E2A-4ED2-9FD8-2047EAD4B569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889760" y="5975280"/>
            <a:ext cx="12542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5EAE-3D17-41DF-828D-0DEBE73B35A2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889760" y="5975280"/>
            <a:ext cx="1254240" cy="882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becta.org.uk/index.php?section=srf&amp;catcode=ss_to_srf_suc_icm_ben_04&amp;rid=14210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anttSRF.xl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atrix.becta.org.uk/GMATRIX_1084745_76010368/1190829572328/rebrand/matrix/evaluate.cfm?catid=643&amp;catindex=1&amp;catname=1a%2E%20The%20vision%20for%20ICT" TargetMode="External"/><Relationship Id="rId3" Type="http://schemas.openxmlformats.org/officeDocument/2006/relationships/hyperlink" Target="http://matrix.becta.org.uk/GMATRIX_1084745_76010368/1190829572328/rebrand/matrix/evaluate.cfm?catid=643&amp;catindex=1&amp;catname=1a%2E%20The%20vision%20for%20IC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ECTA ICT Self Review Framewor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il Cl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ember 15</a:t>
            </a:r>
            <a:r>
              <a:rPr b="0" lang="en-US" sz="32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2007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ICT Mark – Why bother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rifies your own self-review judgemen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s whole school improvemen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an opportunity to be seen as centre of excellen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you with credibility for hosting visits and providing servic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des an opportunity for learners to celebrate their use of IC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ives parents confidence that technology is being used effectivel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s parents that you offer better communication to families and hom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he ICT Mark – Why bother cont’d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s other schools and organisations that you are a potential partner for extending opportunities for learning through technolog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rengthens your bids for involvement in new initiativ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s your commitment to self-review and evalua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s your commitment and hard work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ludes promotional material and guidance on how to use the ICT Mark to promote your schoo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does it add value</a:t>
            </a:r>
            <a:r>
              <a:rPr b="0" lang="en-US" sz="4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s the learning and teaching of IC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sure we utilise our resources full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ECTA Self Review Framework (SRF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has this got to do with you – the governing body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SRF, and what does it entail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BECTA Self Review Framework (SRF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has this got to do with you – the governing body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the SRF, and what does it entail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has this got to do with you – the governing body?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What has this got to do with you – the governing body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 aware that the SRF process has begu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 that the SRF will hopefully lead to the ICT Mar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gnise that we will all be involved in the SRF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sion of ‘Evidence’ (possibly) in accordance with the Action Pl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 aware that a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Gantt Chart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xists detailing the anticipated project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the SRF, and what does it entail?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 is the SRF, and what does it entail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CT self-review framework comprises eight element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dership &amp; Manage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rriculu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arning &amp; Te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sess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fessional Develop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tending Opportunities For Lear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act On Pupil Outco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.g. </a:t>
            </a:r>
            <a:r>
              <a:rPr b="0" lang="en-GB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Leadership and </a:t>
            </a:r>
            <a:r>
              <a:rPr b="0" lang="en-GB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anagemet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Score the stran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Generate an action to enable the reviewer to provide appropriate evidence to support the sco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he ‘ICT Mark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hat is the SRF, and what does it entail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Tahoma"/>
              </a:rPr>
              <a:t>The ICT Mark  - Why bother?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ICT Mark – Why bothe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ICT Mark is an externally assessed quality mark against which organisations can measure whether they have reached a recognised standard of maturity in their use of technolog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2:40:28Z</dcterms:created>
  <dc:creator>neil clode</dc:creator>
  <dc:description/>
  <dc:language>en-US</dc:language>
  <cp:lastModifiedBy>anon</cp:lastModifiedBy>
  <dcterms:modified xsi:type="dcterms:W3CDTF">2008-01-20T16:53:22Z</dcterms:modified>
  <cp:revision>23</cp:revision>
  <dc:subject/>
  <dc:title>BECTA Self Review Framework (SRF)</dc:title>
</cp:coreProperties>
</file>